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FBC14-051C-4C41-8733-99F123B7E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6589B-9926-4D37-B518-06A9231CA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0C656-B9F5-4D6A-9F7C-ECB1BD107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51F65-ED41-49A3-99EB-FBBFA9AA0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C2BCB-F191-4954-80AD-1315B5326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E0603-74BE-4CB4-A722-B9F3B7FCD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2744F-8D57-4A5A-9CDF-707CE76AD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094C3-560A-4993-A1B5-E1EE55FA0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0BCA8-80F7-431E-BDE4-BDE66037C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C3B7A-5D7E-4D14-A440-04A58C295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95719-5506-4872-8491-CB92D7C1D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37D76-DB37-4A76-89AB-980DA3E76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100000">
              <a:srgbClr val="00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EF5EF-810B-49FB-81E5-EF99B70954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100000">
              <a:srgbClr val="00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250560" y="475920"/>
            <a:ext cx="8713800" cy="18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1506d8"/>
                </a:solidFill>
                <a:latin typeface="Comic Sans MS"/>
              </a:rPr>
              <a:t>IMPLICAZIONI DELLA TEORIA DI VYGOTSKY NELL’EDUCAZIO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916360" y="2492280"/>
            <a:ext cx="3152520" cy="41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100000">
              <a:srgbClr val="00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Gli insegnanti e i genitori costruiscono delle impalcature per il bambino che includon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Dimostrar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come fare le cos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Spiegar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le procedur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rni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modelli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critti o reali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Elaborar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istematicamente tutte le abilità necessarie per eseguire compiti più difficili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Formulare domand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che portino a talune importanti comprensioni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Corregger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gli errori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Identificar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e correggere i malintesi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Motivar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lo student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rni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obiettivi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chiari e realistic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100000">
              <a:srgbClr val="00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Vygotsky propone cinque idee applicabili all’educazion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. Un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nsegnamento\apprendimento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mirato allo sviluppo della personalità del bambi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. La personalità è legata allo sviluppo della creatività che deve essere sviluppato all’interno della scuola con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materiali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che forniscono queste opportunit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. Insegnamento \ apprendimento e l’educazione richiedono un’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ttività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reale da parte degli studenti (gli studenti devono essere dei partecipanti attiv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4.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ollaborazion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tra insegnanti e studenti (l’insegnante non deve forzare, progetto comun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5. Metodi più efficaci di insegnamento (non deve essere uguale per tutti, tengono conto delle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differenz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d’età degli student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100000">
              <a:srgbClr val="00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ff"/>
                </a:solidFill>
                <a:uFillTx/>
                <a:latin typeface="Comic Sans MS"/>
              </a:rPr>
              <a:t>Zona di sviluppo prossima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È la zona cognitiva entro la quale uno studente riesce a svolgere compiti che non sarebbe in  grado di svolgere da solo, con il sostegno (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scaffolding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) di un adulto o in collaborazione con un pari più capa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916360" y="3041640"/>
            <a:ext cx="38163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100000">
              <a:srgbClr val="00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395280" y="18864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 conclusione possiamo affermare che il soggetto nel momento in cui interagisce socialmente con gli altri, attraverso  il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linguaggio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si appropria di nuovi strumenti cognitivi, che gli serviranno ad alimentare un agire linguistico interiore, il quale gli permetterà di risolvere in maniera autonoma problemi analoghi a quelli affrontati con gli altr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132000" y="2708280"/>
            <a:ext cx="2963880" cy="41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6T07:40:37Z</dcterms:created>
  <dc:creator>utente</dc:creator>
  <dc:description/>
  <dc:language>en-US</dc:language>
  <cp:lastModifiedBy>utente</cp:lastModifiedBy>
  <dcterms:modified xsi:type="dcterms:W3CDTF">2011-01-26T08:50:49Z</dcterms:modified>
  <cp:revision>2</cp:revision>
  <dc:subject/>
  <dc:title>Diapositiva 1</dc:title>
</cp:coreProperties>
</file>